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F25-22D5-4C60-A661-FD1E524D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D08-BBA1-4BC9-83C4-34600CE0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22D-31FA-417D-8CE0-63909B1F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3AC-94D4-4DA7-8355-F67CCB41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FB68-26CA-4F6F-901D-C7A84137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8DB0-7DB8-4DFA-BBB4-B743F108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7D15-9325-420D-8F18-D51CE41C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9405-1B5A-4791-9D56-F4F18099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CD03-BB6B-4A4C-88A9-F71337A3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15E-19EA-4D47-8EBB-486A9391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A993-5C70-49B2-A9CF-8F93B213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8C2-7855-484F-861A-6FC5E28C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46D8-B4DD-48D4-90AC-A110F4A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6CD0-6327-4529-B740-2C7E3FB4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4CD6-EA9F-4E67-A34B-12F72DA5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2CD6-929A-4690-AC1F-AC92B178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A8D3-86C8-4A78-8CF5-A9AB6BF8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C00-AB32-4517-9503-327956DD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685-66DE-4B81-85FF-0B8A4B23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AC5-FDC2-45DF-B057-81E20004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73B-25A4-469C-B0C0-B7C8D0EC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455-459E-4DD9-A95D-AC9940D8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88E-F6D6-450E-A28B-29DE1259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22D-E6A2-4636-9CC7-55D9A777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E6B5-2A8F-42E0-A770-F293375DF6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C54C-64CE-4943-8B21-4206C39B87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49016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erman Melville</a:t>
            </a:r>
            <a:br>
              <a:rPr sz="6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ugust 19 1819 - September 28 18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733560"/>
            <a:ext cx="78483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Life and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Captain Amasa Delano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rrative of Voyages and Travel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ate of the action moves from February 1805 to August 1799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cudder says this is accidental, Franklin says it is deliberate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 Aranda is no longer thrown overboard; he is stripped of his flesh and mounted as a skeleton on the prow over the message “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guid vuestro jef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” – “Follow your lead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ito Cereno is no longer responsible for trying to stab the slave; instead it is Bartholomew Barlo, a fictional sailor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ee </a:t>
            </a:r>
            <a:r>
              <a:rPr b="0" i="1" lang="en-GB" sz="2800" spc="-1" strike="noStrike">
                <a:solidFill>
                  <a:srgbClr val="666633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 2425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hough Captain Delano originally boarded the ship to make a profit, this has become a minor issue in comparison to his saving of the ship. Melville also omits the argument the two men had over salvage righ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of the descriptions of the Spanish shi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33"/>
                </a:solidFill>
                <a:latin typeface="Times New Roman"/>
              </a:rPr>
              <a:t>[For more details on the changes, see Franklin 529-31 and Lea 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Newman’s </a:t>
            </a:r>
            <a:r>
              <a:rPr b="0" i="1" lang="en-US" sz="2600" spc="-1" strike="noStrike">
                <a:solidFill>
                  <a:srgbClr val="666633"/>
                </a:solidFill>
                <a:latin typeface="Times New Roman"/>
              </a:rPr>
              <a:t>A Reader’s Guide to the Short Stories of Herman Melville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. Boston: G. K. Hall, 1986. 98-100.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us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stant vs. Cath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al &amp; Nation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vs. 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vs. Spa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“Power Dynam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o / Captain 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Benito Cereno / Captain Amasa De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Amasa Delano / his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2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tain Benito Cer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1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Times New Roman"/>
              </a:rPr>
              <a:t>The Nar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06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imes New Roman"/>
              </a:rPr>
              <a:t>Herman Mel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276640"/>
            <a:ext cx="2376360" cy="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2707920"/>
            <a:ext cx="0" cy="252108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708280"/>
            <a:ext cx="4465800" cy="244944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781360"/>
            <a:ext cx="360360" cy="72216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0871E-006 L 0.26388 0.29402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-0.2007 0.30468 E">
                                      <p:cBhvr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40871E-006 L -0.28733 -0.16821 E">
                                      <p:cBhvr>
                                        <p:cTn id="3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0.3033 -0.15779 E">
                                      <p:cBhvr>
                                        <p:cTn id="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73360"/>
            <a:ext cx="8153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Game of Ch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ick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t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708280"/>
            <a:ext cx="806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Text (noun): 2b. The very words and sentences as originally written:  […] the body of any treatise, the authoritative or formal part as distinguished from notes, appendices, introduction, and other explanatory or supplementary matter. […] L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us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u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-stem) style, tissue of a literary work (Quintilian), lit. that which is woven, web, texture, f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-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, ppl. stem of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- re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to weave.]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OED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rn in New York to an affluent (but not wealthy) family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1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her dies, leaving family in debt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s a maritime life on a voyage to Liverpool, then joins a whaling ship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9-184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umps ship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42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but travels around Tahiti and Honolul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46480" cy="345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7640" y="537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ville (in 186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Returns to Boston.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4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arries Elizabeth Shaw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 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lcolm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ves to Pittsfield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nwix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izabeth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s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ip to Liverpool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6-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ctures around the U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-6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844640"/>
            <a:ext cx="424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6666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imes New Roman"/>
              </a:rPr>
              <a:t>Type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mo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ard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Redbur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hite-Jacke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ierre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2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Isle of the Cros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srael Potter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Confidence Man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Primarily shifts to poetry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ain Amasa Delano’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256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ote the account in ch. XVIII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defend his actions concern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logs from his ship,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ersev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legal depositions, and official documents to reinforce his case against Don Benito Cer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9260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inside cover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0240" y="3573360"/>
            <a:ext cx="222120" cy="792360"/>
          </a:xfrm>
          <a:custGeom>
            <a:avLst/>
            <a:gdLst/>
            <a:ahLst/>
            <a:rect l="l" t="t" r="r" b="b"/>
            <a:pathLst>
              <a:path w="140" h="499">
                <a:moveTo>
                  <a:pt x="140" y="499"/>
                </a:moveTo>
                <a:lnTo>
                  <a:pt x="23" y="277"/>
                </a:lnTo>
                <a:cubicBezTo>
                  <a:pt x="0" y="224"/>
                  <a:pt x="2" y="225"/>
                  <a:pt x="2" y="179"/>
                </a:cubicBezTo>
                <a:cubicBezTo>
                  <a:pt x="2" y="133"/>
                  <a:pt x="20" y="37"/>
                  <a:pt x="25" y="0"/>
                </a:cubicBezTo>
              </a:path>
            </a:pathLst>
          </a:custGeom>
          <a:noFill/>
          <a:ln w="12600">
            <a:solidFill>
              <a:srgbClr val="99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71928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2133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Benito Cere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ed 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Benito Cereno (under dur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9880" y="35751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slav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998800"/>
            <a:ext cx="2185920" cy="2766960"/>
          </a:xfrm>
          <a:custGeom>
            <a:avLst/>
            <a:gdLst/>
            <a:ahLst/>
            <a:rect l="l" t="t" r="r" b="b"/>
            <a:pathLst>
              <a:path w="1377" h="1743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49" y="1743"/>
                  <a:pt x="387" y="1728"/>
                </a:cubicBezTo>
                <a:cubicBezTo>
                  <a:pt x="425" y="1713"/>
                  <a:pt x="321" y="1647"/>
                  <a:pt x="325" y="1598"/>
                </a:cubicBezTo>
                <a:cubicBezTo>
                  <a:pt x="329" y="1549"/>
                  <a:pt x="332" y="1529"/>
                  <a:pt x="410" y="1436"/>
                </a:cubicBezTo>
                <a:cubicBezTo>
                  <a:pt x="488" y="1343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5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anonymously in 1855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tnam’s Monthly Magazin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ver three issues (October to Decemb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to assuage Melville’s fears of bringing in no money for his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-published in Melville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185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ry was mostly ignored; the link betwee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Delano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only discovered in 1928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by Scudder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5733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989000"/>
            <a:ext cx="208764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St. Mari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– “a small, desert, uninhabited island toward the southern extremity of the long coast of Chili” (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2405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Times New Roman"/>
              </a:rPr>
              <a:t>2372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ote in Scudder, however: “in the vicinity of the port of Talcahuano” (530) and “the neighbouring coast of Arruco [Arauco]” (516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4240" y="2998800"/>
            <a:ext cx="2185920" cy="2809800"/>
          </a:xfrm>
          <a:custGeom>
            <a:avLst/>
            <a:gdLst/>
            <a:ahLst/>
            <a:rect l="l" t="t" r="r" b="b"/>
            <a:pathLst>
              <a:path w="1377" h="1770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34" y="1770"/>
                  <a:pt x="387" y="1728"/>
                </a:cubicBezTo>
                <a:cubicBezTo>
                  <a:pt x="440" y="1686"/>
                  <a:pt x="342" y="1551"/>
                  <a:pt x="410" y="1436"/>
                </a:cubicBezTo>
                <a:cubicBezTo>
                  <a:pt x="478" y="1321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516640"/>
            <a:ext cx="28908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92360" y="2204640"/>
            <a:ext cx="331164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35280" y="2205000"/>
            <a:ext cx="3168720" cy="33847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149720"/>
            <a:ext cx="28872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37:23Z</dcterms:created>
  <dc:creator>UWA</dc:creator>
  <dc:description/>
  <dc:language>en-US</dc:language>
  <cp:lastModifiedBy>UWA</cp:lastModifiedBy>
  <dcterms:modified xsi:type="dcterms:W3CDTF">2007-11-09T12:17:33Z</dcterms:modified>
  <cp:revision>10</cp:revision>
  <dc:subject/>
  <dc:title>Herman Melville</dc:title>
</cp:coreProperties>
</file>